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24108"/>
        <c:axId val="92401747"/>
      </c:barChart>
      <c:catAx>
        <c:axId val="99624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1747"/>
        <c:crosses val="autoZero"/>
        <c:auto val="1"/>
        <c:lblAlgn val="ctr"/>
        <c:lblOffset val="100"/>
        <c:noMultiLvlLbl val="0"/>
      </c:catAx>
      <c:valAx>
        <c:axId val="92401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24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71A-4315-4331-91BF-1689500D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BD2-26C1-4033-8B00-84C9A48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A15-6769-46C4-AE05-3CAECB87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D12-BC01-434A-85D2-46F5DBC6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2A4-3E53-4658-B7F9-96A5B49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84B-61E5-433A-85CE-A9B2FAF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6E4-0CAF-4A44-AE1C-93CD0251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01F-F60A-42E1-A446-26CE0AE0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DC2-6F06-4375-8CC3-EE721BD6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4A9-5B61-41DD-8D25-56A7FCE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8CF-40AE-4AD4-A5C0-D51BB63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D52-4AAF-4FA1-947D-2DD3247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F686-1DD9-4D5A-A11D-F7F13043E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