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743415"/>
        <c:axId val="15856146"/>
      </c:barChart>
      <c:catAx>
        <c:axId val="277434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856146"/>
        <c:crosses val="autoZero"/>
        <c:auto val="1"/>
        <c:lblAlgn val="ctr"/>
        <c:lblOffset val="100"/>
        <c:noMultiLvlLbl val="0"/>
      </c:catAx>
      <c:valAx>
        <c:axId val="158561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7434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F34E-AADE-44AC-BB8C-3AE6F8B87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8741-16CD-4B40-A5DF-89E68A31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7944-7579-4D44-A9BD-7B16782A5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8781-423C-4ECE-B86B-D8CA8831E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A70A-0789-4479-8029-7699FB932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47D2-1DCF-4ED8-9DDA-2A73DA494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34C3-83F0-4187-A1E3-7758C1F3B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3306-06BF-42EA-AB9C-4C7AE4F8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5011-65AF-4679-BE5F-BD8430412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788C-58EB-464C-9CDD-7E2FF479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B337-55E2-41D2-895B-790BE82E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AB6F-43E5-4BF1-941C-9583949E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472B84-F93F-4758-BA9F-E948EA3E637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