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54960"/>
        <c:axId val="41899305"/>
      </c:barChart>
      <c:catAx>
        <c:axId val="16554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99305"/>
        <c:crosses val="autoZero"/>
        <c:auto val="1"/>
        <c:lblAlgn val="ctr"/>
        <c:lblOffset val="100"/>
        <c:noMultiLvlLbl val="0"/>
      </c:catAx>
      <c:valAx>
        <c:axId val="41899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54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F78-E48F-4784-A3B4-7062E2E7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702-0AC8-4D13-BAD3-491BF9CB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254-0DAF-440A-97CD-41A9B116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3BC8-7D96-42A9-B36F-F53D1498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7C6-3565-4940-B559-40D87908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E98-29FA-428D-8583-48494810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2FD-873B-4442-983E-77C952D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343-079B-4B8D-AE24-21144B6E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F1E-0778-4805-8BBE-8DB5461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628-722E-42C2-AD7A-EC6584E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2A6-60DA-4427-B4FD-37D8DDF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602-EC9C-4AE3-99A1-4666CD2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6BD5F-7E17-47A0-B9FE-A536F4A94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