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97651"/>
        <c:axId val="76728673"/>
      </c:barChart>
      <c:catAx>
        <c:axId val="84597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28673"/>
        <c:crosses val="autoZero"/>
        <c:auto val="1"/>
        <c:lblAlgn val="ctr"/>
        <c:lblOffset val="100"/>
        <c:noMultiLvlLbl val="0"/>
      </c:catAx>
      <c:valAx>
        <c:axId val="76728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97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F1A7-56AF-46F1-A0A8-628FEB81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612-F718-4F1B-837D-E2B80E39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2C1-EC69-4DAD-A319-EE3508FF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36C-9ECE-41FD-BBF3-271D85D5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00C-68ED-4A7B-85E4-719D8477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8B8-55D0-4166-A3EC-2C80D1AE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5B2-DEBA-4F88-9920-BD5C9C3D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46A-F5C9-49F8-9FD0-807955DA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6E9-CD01-47FC-A0AC-904737F4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C75-9D2D-4050-A4B1-2C469A0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6F1-77B4-429F-9141-96A89416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914-6798-4256-81C8-EA77FF04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E4323-8ED7-4E4C-A0B8-318B2117AB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