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50257"/>
        <c:axId val="48590512"/>
      </c:barChart>
      <c:catAx>
        <c:axId val="87050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90512"/>
        <c:crosses val="autoZero"/>
        <c:auto val="1"/>
        <c:lblAlgn val="ctr"/>
        <c:lblOffset val="100"/>
        <c:noMultiLvlLbl val="0"/>
      </c:catAx>
      <c:valAx>
        <c:axId val="48590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50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8A3-8938-4FB2-B7BE-4E2A871C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D9E-A00A-4483-A9F7-97AF0D66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191-B06E-4086-815B-DECC1ED6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15E-9BFE-47D8-9076-A61069E5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755-429D-4F1F-BB6C-FFCD9ED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7FC-7911-47DB-9DD3-1B360623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DFA-24EE-497E-BCC3-6AA239E4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D16-CAA3-42B0-BB5F-B4C37A12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9C5-EE3F-412E-831D-0635C5B5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19F-0978-4C0D-B798-D502A52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D3D-DD5E-4191-8BD5-506A9868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B88-B6BB-400B-82A0-73AB3C36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3FAE6-C0E6-43F1-AC26-1586C74A31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