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787770"/>
        <c:axId val="42805257"/>
      </c:barChart>
      <c:catAx>
        <c:axId val="547877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05257"/>
        <c:crosses val="autoZero"/>
        <c:auto val="1"/>
        <c:lblAlgn val="ctr"/>
        <c:lblOffset val="100"/>
        <c:noMultiLvlLbl val="0"/>
      </c:catAx>
      <c:valAx>
        <c:axId val="428052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877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87CA-71A7-46B5-B98B-D6F2C794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2C0E-0050-4AE8-A5C4-66F6187D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3D57-2DE3-4630-83AD-BDD4D7BC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F3E9-8EBF-4E21-B013-23DC20C8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AFF8-1882-424A-8C62-46D3FDDC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2172-DDA1-4F51-AAAF-7C89929B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36A5-8B16-45C7-A2B9-51B191D6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D710-27AC-4723-8566-A8897AB3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3C95-2D0F-411F-AB0A-12BF301F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AEF4-966C-4AF4-8372-316F8D5D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041A-B2D3-48FD-B02D-949AF95B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1678-3AB1-4FF7-AA74-3B0574FB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C83EE-5BBC-467B-8DAD-FD639E2554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