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23451"/>
        <c:axId val="84731341"/>
      </c:barChart>
      <c:catAx>
        <c:axId val="2982345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731341"/>
        <c:crosses val="autoZero"/>
        <c:auto val="1"/>
        <c:lblAlgn val="ctr"/>
        <c:lblOffset val="100"/>
        <c:noMultiLvlLbl val="0"/>
      </c:catAx>
      <c:valAx>
        <c:axId val="847313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345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1D53-0458-41E0-BFB5-78B2F1625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5AAD-26F4-4594-8BCE-E2D216BFD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73AC-2D2B-4C57-BB78-F45F9C602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0884D-82EA-4FD6-ADBB-B13B317DB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F6FC-98FD-47BF-BD7F-5B487ADB9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EF89-5F27-4D3E-81D0-39C0D87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8E45-333C-46C5-A5B6-B24042133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7E60E-69B5-491E-AE4B-BB8949E3E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8900-459C-479C-869F-01938ED8B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9D56-1062-4CBA-B148-392B8D03C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8AC2-7CA3-433F-A0A1-E12B1F942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8AE02-68D9-455E-B186-5EF5F6BA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767F4-39E7-4DBC-BA57-212D028EE10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