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29890"/>
        <c:axId val="29281808"/>
      </c:barChart>
      <c:catAx>
        <c:axId val="82329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1808"/>
        <c:crosses val="autoZero"/>
        <c:auto val="1"/>
        <c:lblAlgn val="ctr"/>
        <c:lblOffset val="100"/>
        <c:noMultiLvlLbl val="0"/>
      </c:catAx>
      <c:valAx>
        <c:axId val="29281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9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9F4-FF51-4EC5-AE4F-25FA12AF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F00-6B08-44F0-884C-D2D2F79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714-3DAA-4BED-AD09-F72B1286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A12-4509-4B27-AE61-0F6FD489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A7B-1CBE-4F24-8513-25AABE12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386-847A-4043-B24F-8BB7EB06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DEF-F6B6-4DB2-8E9E-1890C23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085-1723-4B77-8F32-D486379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EF9-BC6D-4DED-8976-979FF809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9A7-30ED-4EAD-A484-21E23CB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F5A-6047-43E7-9D69-97217D2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A8E-A4C0-49AF-A970-C9618DA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738B5-BDED-4867-89A4-88472D067A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