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3044"/>
        <c:axId val="54383861"/>
      </c:barChart>
      <c:catAx>
        <c:axId val="5463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83861"/>
        <c:crosses val="autoZero"/>
        <c:auto val="1"/>
        <c:lblAlgn val="ctr"/>
        <c:lblOffset val="100"/>
        <c:noMultiLvlLbl val="0"/>
      </c:catAx>
      <c:valAx>
        <c:axId val="54383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3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394-1D4C-46E7-92D0-280F72F3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3F1-129E-432E-9ECF-AE094D2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1F3-CD54-4B68-957E-8D379A46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270-888C-473F-BFBD-856734B3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188-C636-44A6-A575-DE51E795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5D9-EF2D-4126-8559-38D13C5B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329-0D20-4796-A9D9-BEEC6C7B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D12-2A9B-4745-95DF-2FBB6FE0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76E-84C1-4AA7-AB9D-CFDAD6DB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8E0-10F1-460D-9360-FE41886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165-3B30-4910-A50A-BD40969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E26-4204-4C7D-BC2B-32433A24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98662-DF9B-4E9C-BF97-7069DC5DF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