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85263"/>
        <c:axId val="15852100"/>
      </c:barChart>
      <c:catAx>
        <c:axId val="295852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52100"/>
        <c:crosses val="autoZero"/>
        <c:auto val="1"/>
        <c:lblAlgn val="ctr"/>
        <c:lblOffset val="100"/>
        <c:noMultiLvlLbl val="0"/>
      </c:catAx>
      <c:valAx>
        <c:axId val="15852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852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94F4-B96B-432F-B29A-414B5097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8AD-6AC3-4A36-849A-2529AA66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1EA-432A-4A23-9F6A-7A7D9C34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3DF-956E-480E-A51B-E3DC94C9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41B-6C76-4369-A913-D04E893A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14E4-4C9C-4C9A-8379-5F784492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120A-7FAE-4781-98C0-C2A8EBBA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E800-9E62-403E-B4D2-E3D9F1D5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F32-193A-4DB1-AD5D-81C7F557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EF0-B3D6-4FB0-BC98-957E6E3C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E9BF-8B16-4FEB-BFB3-D20FB8C9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086C-2330-4613-A027-0FC86254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69F59-B664-467D-A86E-6542CD0436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