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75975"/>
        <c:axId val="17141018"/>
      </c:barChart>
      <c:catAx>
        <c:axId val="33475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41018"/>
        <c:crosses val="autoZero"/>
        <c:auto val="1"/>
        <c:lblAlgn val="ctr"/>
        <c:lblOffset val="100"/>
        <c:noMultiLvlLbl val="0"/>
      </c:catAx>
      <c:valAx>
        <c:axId val="17141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5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73A-29C9-438E-BAE7-0C09CB3E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F2C-7BD2-4DF5-976C-AFA2824B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8B4-0F77-4907-88D5-9E02020B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8CA-0FDE-4EFE-90F2-BB0CD49B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D8F-C730-4641-A85F-131A1C86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24F-A115-44F6-A395-ADBDF2D6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B58-1999-4A14-B055-E63B032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D08-8919-4422-9883-8FD496FA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DA9-C2D4-4C72-97E6-EE075BBF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450-E33E-44DE-975D-10885C15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07A-BBEE-405B-8A33-7ACD58E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C23-C286-44C6-A6D7-FCA2BA6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D9D9D-C143-4BBD-A4E3-2B2DA6A926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