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91735"/>
        <c:axId val="9860000"/>
      </c:barChart>
      <c:catAx>
        <c:axId val="34191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0000"/>
        <c:crosses val="autoZero"/>
        <c:auto val="1"/>
        <c:lblAlgn val="ctr"/>
        <c:lblOffset val="100"/>
        <c:noMultiLvlLbl val="0"/>
      </c:catAx>
      <c:valAx>
        <c:axId val="9860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91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BB4-AA31-43A3-B778-2A48C1CC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1A7-8173-450E-8CA2-4DF9E6D6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707-5597-4D5D-BFFC-36C69EFA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282-3F04-4DD2-90E7-9A9CB633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94A-75BB-493D-AF77-A61F6802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4A5-DE92-4173-9FFD-ABC7104B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810-CDBA-4B94-B539-241DEA83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E2C-B910-4C32-AC6C-817B527C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871B-E1EB-45E6-AEB8-AD1384A9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1E1-9F9F-4AEC-BBF7-D4E2E5BD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193-CDEB-49C4-8205-513B5A85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6FF-8767-42FA-9D0B-245642CF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DD97E-8A30-41B5-8997-CBF98F69F6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