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04625"/>
        <c:axId val="62874501"/>
      </c:barChart>
      <c:catAx>
        <c:axId val="21304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4501"/>
        <c:crosses val="autoZero"/>
        <c:auto val="1"/>
        <c:lblAlgn val="ctr"/>
        <c:lblOffset val="100"/>
        <c:noMultiLvlLbl val="0"/>
      </c:catAx>
      <c:valAx>
        <c:axId val="62874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04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102-8FC3-46AF-814E-2B176F58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7F8-674C-402F-A849-56B5517C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B20-37EE-42D2-BF75-64E185D4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1FF-B358-4F5A-BE0A-422C4023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70F-44D1-416D-B4A3-E126810B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54F-2665-42BB-9295-99A94403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D9F-FD0B-4F85-952E-A9800F47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D3E-182A-4946-9B50-B1247EAB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B16-25CF-4555-8318-3EA0A86F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6E9-FFFF-4EFA-BE86-0A5ED029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A69-34A6-4160-9C88-85B7568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E38-0A7D-4FCE-905B-92CE12E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A8010-AA62-4CAB-A3E2-B894A9D40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