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386910"/>
        <c:axId val="19566692"/>
      </c:barChart>
      <c:catAx>
        <c:axId val="69386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66692"/>
        <c:crosses val="autoZero"/>
        <c:auto val="1"/>
        <c:lblAlgn val="ctr"/>
        <c:lblOffset val="100"/>
        <c:noMultiLvlLbl val="0"/>
      </c:catAx>
      <c:valAx>
        <c:axId val="19566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86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981-B40F-47A2-B83E-C47AFAE2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CAA-FD3E-4551-BFBC-5ABF6B55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EA4F-F4F7-4F74-AA6E-9254DB88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DB0-6710-4D45-9DD4-D949F9E5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F97-EE8D-4CD0-ABFE-7532ECC8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17E-BEF1-4A3E-9E3A-5C656973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E6A8-100D-4E6D-A889-AF7504BF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C299-B646-4988-94D4-9F9EA24D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699-68D2-4DDD-99E6-886747B1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891-1D37-4885-8A62-020D0E8D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D32-2FF4-4FB6-95BA-D14A35D6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C61-343E-41DC-936A-AD3C1578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D087B-AFD5-4337-8092-8DAC84C5A8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