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28221"/>
        <c:axId val="64640486"/>
      </c:barChart>
      <c:catAx>
        <c:axId val="431282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40486"/>
        <c:crosses val="autoZero"/>
        <c:auto val="1"/>
        <c:lblAlgn val="ctr"/>
        <c:lblOffset val="100"/>
        <c:noMultiLvlLbl val="0"/>
      </c:catAx>
      <c:valAx>
        <c:axId val="646404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282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1F2-F8DB-41E4-9B3B-7CF2D206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EEE-023C-4BA5-9FE0-933EC602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D3B-E08A-4ECB-A805-991A8DBC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702-B67C-4498-AD01-CEE0F31C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DC2-65E0-40EF-AB6E-AE0D053D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45D2-E4FB-4956-9F19-72017921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93D-0A41-4847-81AD-67C2414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F39-2C56-421A-A87C-17E3A171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59C-609F-41FC-ADE7-97AA0BFA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A8A-8C6C-42A3-A069-5D41ED9D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814-B761-46B9-8301-9BF78DA8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E76-4263-4626-9A00-9CB33542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A72B9-C339-4F6C-8067-9CBD5894EE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