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50835"/>
        <c:axId val="56679315"/>
      </c:barChart>
      <c:catAx>
        <c:axId val="39650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79315"/>
        <c:crosses val="autoZero"/>
        <c:auto val="1"/>
        <c:lblAlgn val="ctr"/>
        <c:lblOffset val="100"/>
        <c:noMultiLvlLbl val="0"/>
      </c:catAx>
      <c:valAx>
        <c:axId val="56679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50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C1D-7E16-4C2D-A3AD-98AE3F72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73F-624F-4BF0-BADB-FC520C05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510-0A40-4697-A7CC-EEEDFC78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47B-F43C-4A53-8362-6C4817DD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F26-0C54-410E-ACE3-8640FF6E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EE1-1881-43D7-B3D3-2C72A74A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A93-5ED7-4E29-A049-5BF4AD66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E3A-730F-48B3-99BA-CFFE14B4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B12-86D7-4042-9A8B-C1A6035B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895-D146-4FD0-8999-B067766D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C48-A209-4662-AA35-79FB010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383-AA02-4A06-A41D-5F4DC69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15259-EFFB-44B8-951B-289F43878F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