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1154858"/>
        <c:axId val="45536158"/>
      </c:barChart>
      <c:catAx>
        <c:axId val="1115485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536158"/>
        <c:crosses val="autoZero"/>
        <c:auto val="1"/>
        <c:lblAlgn val="ctr"/>
        <c:lblOffset val="100"/>
        <c:noMultiLvlLbl val="0"/>
      </c:catAx>
      <c:valAx>
        <c:axId val="4553615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15485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070B-7AA4-4260-BA19-489D4A1C2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B093-4AEE-4CC8-9831-337735BFA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7963-9D2E-4DEB-B194-0451EABBE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F7C7-0226-4B82-A5EE-7CA84BE54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813B-75CA-485C-B8E2-C0B805F7A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6464-7501-4F2A-87CA-FCDB3854C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24B9-06B5-4465-B0BF-F70267721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A77E-874B-4066-8705-7AED30B41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FCD1-4E40-4175-9322-898E201CD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B7BA-EBA7-42E5-8861-763A8007B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7DB7-EE96-4C4C-BA22-9D6072481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4876-EAF4-442E-9787-68C57BCF0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4C84D2-D108-4CF7-94CF-4995B8733DE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