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050008"/>
        <c:axId val="53710140"/>
      </c:barChart>
      <c:catAx>
        <c:axId val="90050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10140"/>
        <c:crosses val="autoZero"/>
        <c:auto val="1"/>
        <c:lblAlgn val="ctr"/>
        <c:lblOffset val="100"/>
        <c:noMultiLvlLbl val="0"/>
      </c:catAx>
      <c:valAx>
        <c:axId val="53710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050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FE27-9C4D-4764-A24F-BEC58E86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850-2D95-4954-BAE0-58A24163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37F-D535-4A2A-BEF4-3119FB70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F47C-6EF3-4668-9A2E-451459E0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3A5-106B-47BC-9017-B4C665B5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617-F2CF-4148-851D-A2CC57A3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8A62-5B2F-46ED-A1DC-F14818A7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92F8-E402-4702-8FE6-70ADB8D2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2C0-05B0-4B26-84A4-0238CC64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189-6665-4969-B641-5C29965C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BF74-0E83-4DA9-BE45-55F03939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2D23-B45A-4A9E-B2DC-D19F5FEE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CA449-3D9F-43DE-AB6A-F7B3AE5292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