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935386"/>
        <c:axId val="7967482"/>
      </c:barChart>
      <c:catAx>
        <c:axId val="389353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67482"/>
        <c:crosses val="autoZero"/>
        <c:auto val="1"/>
        <c:lblAlgn val="ctr"/>
        <c:lblOffset val="100"/>
        <c:noMultiLvlLbl val="0"/>
      </c:catAx>
      <c:valAx>
        <c:axId val="79674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353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508F-6DAA-4F3E-A555-8D269441F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81A9-915B-4436-AC4B-55119CB4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EB8C-07B2-4F9A-B42B-D3F578EE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56F0-A1FB-4111-8398-A505865B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7B90-E84F-4B6C-85C9-85D92F72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5734-C003-4125-A73E-C7545838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25AF-746A-40F8-B607-742798BD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CB49-243B-4595-970D-60EE4066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AC65-4CD2-4963-B2EF-1E2E4580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DF39-CC46-4068-8960-29D93684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F8DC-6265-473E-B4FB-54DA8F0D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5172-3BBD-4C8C-9974-28598EF8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60857-2E8C-404C-8CF7-3D676F0018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