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16599"/>
        <c:axId val="99046749"/>
      </c:barChart>
      <c:catAx>
        <c:axId val="48216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46749"/>
        <c:crosses val="autoZero"/>
        <c:auto val="1"/>
        <c:lblAlgn val="ctr"/>
        <c:lblOffset val="100"/>
        <c:noMultiLvlLbl val="0"/>
      </c:catAx>
      <c:valAx>
        <c:axId val="99046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6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C83-DCB9-42F5-86BF-1C7DED58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596-842B-4FE9-97FB-2104F9D7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1DD-A2BD-4A47-A166-62AB67BD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C97-4FAE-448B-8947-F6F02300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4A9-6F7D-490C-BDBC-402628A0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ED0-E0B8-4A68-855B-9631D6FA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42B-624F-465E-8032-D1009E99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C24-29CB-4744-BA97-532F3C05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D62-540B-4410-80F4-6962DA6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6AA-CD00-4291-90F0-F231F78F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EFA-A962-4A5E-8458-1BE1EF4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E82-CC43-4C0E-99AA-E8D66282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A95E2-760C-4250-8248-30978FFD55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