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26903"/>
        <c:axId val="25290231"/>
      </c:barChart>
      <c:catAx>
        <c:axId val="17826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90231"/>
        <c:crosses val="autoZero"/>
        <c:auto val="1"/>
        <c:lblAlgn val="ctr"/>
        <c:lblOffset val="100"/>
        <c:noMultiLvlLbl val="0"/>
      </c:catAx>
      <c:valAx>
        <c:axId val="25290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26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A1E-99CA-4F50-8367-62EB829A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916-6A65-40F6-8572-55FBA44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907-CDA7-4B2F-8601-1EF854E4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DAE-EB61-4EBF-BCCA-9F947E35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475-8215-4A76-B119-734FFB6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53D-8246-4CBD-8B06-D5EA8B7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335-E753-4C32-8DB9-BDF6F0EF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0F0-3736-452D-8E48-73F70B5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389-5CC1-4580-8C74-8DCBCE4D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BF8-D8BB-4642-BED1-B37871A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7F2-BFAB-41D9-86FE-2E1517BC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F4D-F1F5-4C05-AE8C-486D89BA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C3018-FA4D-4101-AA7A-2613A4991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