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57095"/>
        <c:axId val="69916773"/>
      </c:barChart>
      <c:catAx>
        <c:axId val="95157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6773"/>
        <c:crosses val="autoZero"/>
        <c:auto val="1"/>
        <c:lblAlgn val="ctr"/>
        <c:lblOffset val="100"/>
        <c:noMultiLvlLbl val="0"/>
      </c:catAx>
      <c:valAx>
        <c:axId val="69916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57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A21-2643-4A15-857F-8E5C0DB6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EA8-EBF3-4D58-B187-9C3E6E57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84E-B077-493E-94CD-1F8B1302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66A-FCB3-49DD-B633-C93E1BBB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5B8-6D45-4AA7-BA2D-40AC965A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C6B-7DD7-47A8-83FC-917D661A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B8B-5B4A-49C0-9689-55B0B96A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ED1-37B8-444F-A292-C61FBE2B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5CA-B7D3-4A85-8EAE-E1770E71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D75-AC08-4A5E-A931-2CC1AAEA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456-3F0A-414F-8186-6EE7A97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DC6-31CD-4302-A3A6-36EE8646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BEB74-804D-428B-BA05-159219748F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