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702952"/>
        <c:axId val="74856431"/>
      </c:barChart>
      <c:catAx>
        <c:axId val="327029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56431"/>
        <c:crosses val="autoZero"/>
        <c:auto val="1"/>
        <c:lblAlgn val="ctr"/>
        <c:lblOffset val="100"/>
        <c:noMultiLvlLbl val="0"/>
      </c:catAx>
      <c:valAx>
        <c:axId val="748564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029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3D49-A65D-4E72-B795-12A5283B5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659C-D141-4EF4-81E1-B1B33F2B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9444-3305-4F81-870C-8C0BD94AA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3D42-A41B-4253-9CCC-2523E98F9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B81B-4347-4179-97AE-2DA88E06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1C80-93D7-4F19-8085-45F98E28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8220-9402-49B9-8FCF-11B158CB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24C5-5802-4507-A6F6-13543231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291A-8877-4E1B-8534-21CBBB96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D8DD-652A-45E1-8D18-05A20924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708E-0B76-48AD-907D-53B6B7C0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EB3D-FDA2-45C5-AC25-A60AC2BC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650C73-A236-46BA-96D9-DD13A93EB4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